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6354D-E130-4140-8B1A-D4CB5E9F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2A0D-28EF-43F3-AC4D-4AA75428D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95B3-7F81-4656-A084-A056D548B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F4AF-015C-433A-8749-4448E9E6E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7D64-7262-404C-B6E9-7EC359060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37F-2754-42F8-9AE6-E856E785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76CF-0268-4F29-876E-166C734D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836E-F37B-4275-965A-2D7A16ED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33C-4064-44CC-96AF-0D4C4454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4EC9-D054-4F1A-9E37-F5752E16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C241-F350-473A-AED4-B7C3E43AA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E9F3-1EFE-4B44-B2B1-6BE944F45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B442-1462-4084-A564-692407F74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685800"/>
            <a:ext cx="2736720" cy="2590920"/>
            <a:chOff x="304920" y="685800"/>
            <a:chExt cx="2736720" cy="2590920"/>
          </a:xfrm>
        </p:grpSpPr>
        <p:sp>
          <p:nvSpPr>
            <p:cNvPr id="42" name=""/>
            <p:cNvSpPr/>
            <p:nvPr/>
          </p:nvSpPr>
          <p:spPr>
            <a:xfrm>
              <a:off x="304920" y="685800"/>
              <a:ext cx="273672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Marketing-Mix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92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492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Charg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73280" y="901800"/>
              <a:ext cx="136836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4Me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3280" y="111744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Preis(€/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492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73280" y="154944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Comic Sans MS"/>
                </a:rPr>
                <a:t>Printwerbung(€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492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673280" y="1981080"/>
              <a:ext cx="13669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492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673280" y="241308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92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673280" y="901800"/>
              <a:ext cx="1368360" cy="1942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04920" y="2844720"/>
              <a:ext cx="273672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Anzahl MA Verkau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04920" y="685800"/>
              <a:ext cx="2736720" cy="25909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995640" y="907920"/>
            <a:ext cx="1657440" cy="1513080"/>
            <a:chOff x="3995640" y="907920"/>
            <a:chExt cx="1657440" cy="1513080"/>
          </a:xfrm>
        </p:grpSpPr>
        <p:sp>
          <p:nvSpPr>
            <p:cNvPr id="58" name=""/>
            <p:cNvSpPr/>
            <p:nvPr/>
          </p:nvSpPr>
          <p:spPr>
            <a:xfrm>
              <a:off x="3995640" y="907920"/>
              <a:ext cx="165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43200" rIns="432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1. Geplanter Absatz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995640" y="1123920"/>
              <a:ext cx="1656000" cy="432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DRESS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995640" y="1555920"/>
              <a:ext cx="165600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mic Sans MS"/>
                </a:rPr>
                <a:t>Großabnehmer: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995640" y="907920"/>
              <a:ext cx="1657440" cy="15130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5651640" y="1052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80000" y="83664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56360" y="692280"/>
            <a:ext cx="2736720" cy="12967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Kapazität Maschin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Benötigte Kapazität: 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Verfügbare Kapazität: 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mic Sans MS"/>
              </a:rPr>
              <a:t>Kapazitätsauslastung: __________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3058920" y="105264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83664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788000" y="3716280"/>
            <a:ext cx="4033800" cy="1800360"/>
            <a:chOff x="4788000" y="3716280"/>
            <a:chExt cx="4033800" cy="1800360"/>
          </a:xfrm>
        </p:grpSpPr>
        <p:sp>
          <p:nvSpPr>
            <p:cNvPr id="68" name=""/>
            <p:cNvSpPr/>
            <p:nvPr/>
          </p:nvSpPr>
          <p:spPr>
            <a:xfrm>
              <a:off x="4788000" y="3716280"/>
              <a:ext cx="4033800" cy="18003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Kapazität Mitarbeiter in Produk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geplanter Absatz:  ____ Ch. DRESS        ____ St.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heiten pro MA:   _____ DRESS           _______ 4M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= Personalbedarf:         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aktueller Personalbestand: 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Einstellungen/Entlassungen:  _______ Pers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9" name=""/>
            <p:cNvGrpSpPr/>
            <p:nvPr/>
          </p:nvGrpSpPr>
          <p:grpSpPr>
            <a:xfrm>
              <a:off x="6084720" y="4221360"/>
              <a:ext cx="2519640" cy="142920"/>
              <a:chOff x="6084720" y="4221360"/>
              <a:chExt cx="2519640" cy="142920"/>
            </a:xfrm>
          </p:grpSpPr>
          <p:sp>
            <p:nvSpPr>
              <p:cNvPr id="70" name=""/>
              <p:cNvSpPr/>
              <p:nvPr/>
            </p:nvSpPr>
            <p:spPr>
              <a:xfrm>
                <a:off x="6084720" y="4294440"/>
                <a:ext cx="10083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596360" y="4294440"/>
                <a:ext cx="10080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" name=""/>
              <p:cNvGrpSpPr/>
              <p:nvPr/>
            </p:nvGrpSpPr>
            <p:grpSpPr>
              <a:xfrm>
                <a:off x="7236000" y="4221360"/>
                <a:ext cx="144360" cy="142920"/>
                <a:chOff x="7236000" y="4221360"/>
                <a:chExt cx="144360" cy="14292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236000" y="4294440"/>
                  <a:ext cx="14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7308720" y="4221360"/>
                  <a:ext cx="0" cy="142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5" name=""/>
          <p:cNvGrpSpPr/>
          <p:nvPr/>
        </p:nvGrpSpPr>
        <p:grpSpPr>
          <a:xfrm>
            <a:off x="324000" y="3573360"/>
            <a:ext cx="2736720" cy="3095640"/>
            <a:chOff x="324000" y="3573360"/>
            <a:chExt cx="2736720" cy="3095640"/>
          </a:xfrm>
        </p:grpSpPr>
        <p:sp>
          <p:nvSpPr>
            <p:cNvPr id="76" name=""/>
            <p:cNvSpPr/>
            <p:nvPr/>
          </p:nvSpPr>
          <p:spPr>
            <a:xfrm>
              <a:off x="324000" y="357336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mic Sans MS"/>
                </a:rPr>
                <a:t>Beschaffu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T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4000" y="4005000"/>
              <a:ext cx="136656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692360" y="3789000"/>
              <a:ext cx="136836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POLO-SHIRT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692360" y="4005000"/>
              <a:ext cx="1366920" cy="431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4436640"/>
              <a:ext cx="136656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692360" y="4436640"/>
              <a:ext cx="1366920" cy="50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4000" y="4941720"/>
              <a:ext cx="136656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692360" y="4941720"/>
              <a:ext cx="1366920" cy="50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Stück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92360" y="3789000"/>
              <a:ext cx="1368360" cy="1656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4000" y="5445000"/>
              <a:ext cx="273672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Comic Sans MS"/>
                </a:rPr>
                <a:t>HILFSSTOFF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4000" y="3573360"/>
              <a:ext cx="2736720" cy="309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4000" y="5660640"/>
              <a:ext cx="2736720" cy="433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darf (Chargen: DRESS + 4Me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4000" y="6094080"/>
              <a:ext cx="2736720" cy="287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and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24000" y="6381360"/>
              <a:ext cx="2736720" cy="28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Comic Sans MS"/>
                </a:rPr>
                <a:t>Bestellung (Chargen):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826920" y="254160"/>
            <a:ext cx="705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Entscheidungsfindung ohne Versandmarkt (P1 und P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64000" y="2492280"/>
            <a:ext cx="165600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12000" y="256536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058920" y="2565360"/>
            <a:ext cx="136836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48000" y="2506680"/>
            <a:ext cx="4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mic Sans MS"/>
              </a:rPr>
              <a:t>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95640" y="1989000"/>
            <a:ext cx="1656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Me (Stück)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560" y="1981080"/>
            <a:ext cx="128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76520" y="1981080"/>
            <a:ext cx="144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Anzahl MA Desig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B 4 Entscheidungsfindung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13:58:15Z</dcterms:created>
  <dc:creator>WHS</dc:creator>
  <dc:description/>
  <dc:language>en-US</dc:language>
  <cp:lastModifiedBy>EGS</cp:lastModifiedBy>
  <dcterms:modified xsi:type="dcterms:W3CDTF">2008-07-17T12:32:51Z</dcterms:modified>
  <cp:revision>18</cp:revision>
  <dc:subject/>
  <dc:title>Folie 1</dc:title>
</cp:coreProperties>
</file>